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AEA-C738-4D5A-9C52-3F08918B6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9B4-A906-4F25-8D7C-3B688465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56729-098F-4FE3-90B7-267B7559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1AB94-31DE-4F1B-892E-1572BEDF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295B0-4470-41B4-95A1-DB2EC36E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9BCA9D-4C71-4A1E-99F5-6A005D7A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09B54-EB05-47D5-B412-312FEF20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91900-4263-46F5-9ADF-58050E93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89823-FB34-47BA-A590-0DE283C6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3299C-E591-4006-8C73-151412C5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ABACC1-1997-4D95-A463-27001247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0E580-A09E-4542-965A-2FDD6FA4C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5FF-7938-4317-8252-00B15CE7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717B0-C61E-4319-BB85-62C2EE6E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CA07EC-027F-4370-B30A-58F07E37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D07F35-1E0D-4CC5-BD13-963E2892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0E565-B579-45A6-AD6D-C22CB280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A1A53C-64D0-4DFD-95BC-702B4EB3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3AC4A-10EC-49A3-AA00-BC91CAB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8A8F34-0698-4DE7-8A82-AB9C130E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A5BC2D-2B41-4163-A655-94D2FEF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4216A-09AB-4E98-B373-DE1687CC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5C728-1823-4475-BFE9-74679BCF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4E1F-DA62-4679-80BE-11CF224F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520C7-AE67-412B-80D3-8808652E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6DDBA-47E5-4246-A946-751047CD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6F48D-90DA-4594-8ADE-16B5DA1D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4322C-C95B-4735-B18A-51D2D0211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B7FF7-7E18-4766-B832-F183F5951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A4507-86AB-4BD1-A3CC-738BA0EA0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17344-1D67-494C-B76C-871A13B1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82586-09AB-4871-8D14-53BA6BB5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72B09-2AB7-409B-86BC-A705A5AFF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2430D-0AE1-4A3C-BB6C-E08BAA13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E7618-202A-46E1-88B3-53920FC21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3BE88-40C2-4938-9966-D20153A5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4ABDF-E829-47C3-A36E-1E1CF15F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E72BA3-5B4E-4D73-86C0-A36B9503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39468-A05C-4A70-ACA6-DAAF229B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DA6EB-C3A1-4F72-A70C-64F2A439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AA060-99D0-44F9-91DB-9E8875EF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83033-5B5C-45AF-BA48-3D1EA836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B4CE90-4FC6-4E76-BB8F-38F4A82D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919A67-E787-4AEF-A03B-83328CE65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8EF4A9-5E3A-4BDA-BD03-0549FE8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3E66-9DEE-4DA8-A11D-75C26192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DC74E6-04A3-4633-8F96-2F75A546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9251B-42B9-4964-AFEF-89C49B2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EECB3-A634-47A4-8ED8-80546AD2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B2DED-2C98-49A7-BD11-1C4A7C505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2A3485-5718-4926-95B7-19F611E16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EC996-D068-428A-B5BE-210E0A16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87C80-B8E9-4CF1-A991-C5E537FB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27F874-FD39-40BA-89ED-BF475FBA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96F78-6643-4365-9512-07247DDF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5A9C0-2A53-4D10-A2DB-1ECE6896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0F93-6162-48AB-A693-9945B943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4A4FB-0038-4251-BE1F-CEE99354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F6ED9C-8F7C-4221-93B3-A2DA8BE1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6938C-B884-43BE-9D9D-20AAB775E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1CC29-674E-4D77-B484-BF757845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3C7CC-7EEF-41B7-AD9C-397ECC33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93F73-E506-43FB-BF50-7A1EA728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ADAE29-BB96-42A0-AAF3-3E72DC23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15B1D-7E45-4156-9741-64715947E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2223D2-3623-4CD5-8BEE-79E983DEE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6ED679-0440-4C72-9EE3-F13D98B5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F2A54-CED1-4938-BBA6-823EB89A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66D7D8-E4F9-4F5A-BD42-A692FE178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F62E7-108C-4080-9A79-F8B355AC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C38A1B-AA76-4BAF-A23C-972A7DAE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927F7A-8DC9-430E-991C-98F18E58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AA81D-63A6-4DBD-AAD7-ACFE1256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8FCD7-5041-4FCA-98A6-740103F9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422200-0978-4064-85FC-4552BE83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B7E3A2-7582-471A-9297-9F3BF062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3CB665-2FB1-4082-BB1E-87541835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CF55A2-EC8B-43F5-A1BA-5E1A9B57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F76A-CE90-49CC-AAF0-44036596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90ED0-7F0A-43B1-B410-6CE9A352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7EF3E6-9F77-4CC0-9535-9E8E984C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15F98F-A90B-4A0C-82FE-970CFCAE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9B36B-C427-4AE3-A1FC-55423F8D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92F18-EF1B-41A4-988B-C712ACF05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F24C2-0DC2-49E0-AB49-092FD8E5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76CFC7-CDD0-4543-A6CE-058F27B3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93259-5157-49E6-B0C5-FB36FF2A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309E0B-B218-43AF-964A-7975EC07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CC809-5EB4-4717-B980-4F598158B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13CA-6EAB-4C73-B5BF-65A80CFA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75816B-5AFE-4769-9F0B-52984EB1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82271A-C9AF-4790-A261-2F86F039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4E30C-CEA7-46A7-89B2-1458882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46968-3A23-4890-88D3-B4153D62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1FE12C-FBF6-4A3F-B174-F8D2935B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B9AE8B-4151-4A09-A482-40A7B0D3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9353A-9F58-4E6C-8B13-E017C126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C0ECF-A906-478E-AABF-788D860F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AADCCE-EAFF-4F20-A6C8-31FABED0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0ECD60-2C24-4B54-9EA1-3FB88CFD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B45E-7E54-4631-AE5D-BDF857EE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9DD9B8-5A04-4B83-AFED-EFEAFCC0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F343A6-3779-4559-AAE7-795297FA0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917DB7-E667-46C9-A328-53E78974A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C8A005-422B-4FF3-AF75-A3D86328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62D94F-36E1-4785-8D4F-0B42AAC1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E4B285-B238-40B3-BD4C-A6F040E2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2AD202-5867-4FAB-9633-9474EF114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5472CF-B1EA-4F9B-8E74-3A138169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CAF7CE-FAB9-4D6E-8005-75C540C0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7F9391-8515-408D-82B1-78281DF6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8906-4046-4A40-9B0D-6B7B3782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3D730-E567-4A2A-AC8B-F79F59EB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90298E-E78F-4D26-9190-BF65723B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07848-1E3D-476D-987A-09779DAE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4D4E85-A0A7-48CD-AA1D-F96FCEEF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687E2-3433-4A9E-A56E-6D1F22D88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17DE2-709E-4C6E-AEED-A9FA208FA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E4907E-F380-48E2-A088-32A4C4FF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A75C8-FCB2-4185-892D-54625B90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A9FDF5-0C8F-404E-9036-4352E128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E5076-631D-40EA-8B26-1C2E302EF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03E23C-BE8C-42CA-A44B-CB0A6FD8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376B-0995-4EC7-9BDB-FEBB23E8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6BBD5-CC9C-4082-B4CD-16AB178C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8E8B9-A50F-47F6-8838-5910EB2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B41E1-8972-43DA-8E01-0B599D17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174B6B-6126-4C32-809C-F870D33B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0B5E60-9DAE-4523-AFD9-E7371501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D53A6D-63D1-4347-AD66-8256B0D1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054E21-ADDF-4B53-A698-8531D685E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ED705A-0671-4DDF-B43D-391269EB9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32A210-86D9-41A7-860F-B9CB41D0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12A41D-CFEA-4F9D-82BC-79E18943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8AF2-A0B1-459A-95D4-0D8CFB0A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50DBE2-E6B7-48CE-8D83-73EA841E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5D1A15-8A5E-4A7E-B9B4-FB078F3A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72D49A-C2B0-474D-AED1-F4F97D7D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D0488A-A629-46A8-8DAE-02D43E45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DA8F7-3C88-42A5-9AA3-4A59E3DB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367AF3-DFC0-4EAC-AF57-6484AB9F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A5B5FF-D5BE-4FBC-8640-C0B6EFB1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AFBFD9-6EAB-4BBE-828D-50E214E1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19FC10-DA63-4E33-8575-E7B7E326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A15BB8-BA14-48B6-8230-60BC61A3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5647-7149-45FE-B773-AAE3F977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E0B5A0-0533-4378-9DD9-AAB1ABDD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4EE54-FEE4-4EEB-B400-E8DE39326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DE438F-88F9-45B7-B816-2F81C290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D7E6F7-EEC5-4B07-A657-775D6360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BEBFBA-EFEA-428E-A59D-CC983BA6C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C573B5-9368-4829-AED1-AD80B327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3D85E-1B09-4DFB-8ACD-6A06F694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FA008E-E054-4D12-8CAD-0ECC1B1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BB7545-F17A-4D13-9047-5B146B2A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91EA7-EF3A-4433-9C01-83F1346A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83E9-33F8-466D-BFEF-7AC786BB4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A8932D-FA51-44B3-B599-CE0E03F3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CD6FB-EC52-4123-8C2B-3159EEAB1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7ACA6C-73ED-445B-A424-DC8359D0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E3D1F5-8E9D-4E72-BD12-21E40376A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DCE758-1ED2-4975-A72D-9065ACA3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404F5-1567-4306-90D0-DB22D98F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8298A1-886A-46B2-A5FD-DAA05CEB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B4093D-9FCA-46B6-9B2C-877C60D0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BC0D0D-092E-4CD3-99E4-2A43E9B9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AA734B-08F0-4094-8880-A514FD71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613F8-9576-4010-B032-06979D465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EF64F2-99EA-4021-9DD4-D3BA361F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037970-853E-4BB8-8BA7-7CE841F0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480288-85E2-4D82-8A97-DB8A570D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AC018-F4B8-4D70-9605-06BEF820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B5DC9-1AE2-454C-8F9A-4C2B9D48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E2C1B-883B-41EC-92CA-585A3505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89069-FF01-46A7-8FF2-51EC445D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A13C-1333-45E6-A84F-CEB3E4F3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F280-D50F-47B4-9F33-1BD1EA1CD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A41F4-F5B8-4F0B-8FDE-37D4AC85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813E8-E27B-4330-9937-334DD5D4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CB3F5-2BE0-4AC5-832D-9E13D525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9B5EB-9AC2-40C6-9972-3E4760F3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5E495-5940-4F1B-8811-1139AF4E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07CFE-2106-4718-9ECA-54EE2185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92AB4-A3DA-4BAC-A7CF-ABE428D9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6944B-3572-4C56-BAF7-B82171B4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02189-0CD6-4DCC-A443-965600628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82AF-32AF-4365-ADDD-B1FDE254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61C1E-3504-49E0-AE62-1D615280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98E31-311E-494D-8898-0D8ECCCF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2F053-8F66-46FF-BB36-56CB42229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23EE5-EDB0-424D-A17C-376BA433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A8534-A511-4BBA-A02A-8540B368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CC266-84E3-4D3D-8163-D58BFCBB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6A897-2FFB-4F87-AA98-B6C157CCE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975F-2742-485A-90ED-77DA4265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1BFD6-51D3-4D00-908B-E2808A215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A11E-FDE7-4200-A107-C8F92655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CC4C-D107-414A-9BD4-7BFD5EE0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52AD9-2605-4743-816A-65B2B0CE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EA28D-4007-4FBC-8737-E633EBF1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6D5DD-3481-4445-BB2D-7501EBBF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363ED-2B6E-4BBA-A894-36C6CB52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46364-D6E0-40C2-82ED-C8BC873D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E2D7E-58F9-436B-B843-7C5281C5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49638-4F87-4937-B522-3A5505E7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FABB5-0339-41BE-BE87-8D85F9DE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21F1B-9DB9-4C6C-8A9A-DE5FF686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EFCF-A320-45E3-8C40-D130CDA20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62D-D989-456E-B4FB-D709C924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D2B4B-8832-48DE-89C8-9C64EDCD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5F327-A204-4103-842E-AFA440AE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D745F-9256-4743-BE3B-B54D2424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6877A-3A0A-409C-96B8-268CCF551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2A799-2C53-4A21-B07E-1AB265EDD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0106B-86BB-411F-BACA-AE8363A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36449-2DD9-4ABA-B2FF-B6AA34F3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47F3D-BF33-41AB-BCA7-88E7E27F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F5F87-7ACA-4B6B-9679-A410C521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5359B-E67A-4C7A-9F02-0607F454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43E7-B369-4DF3-9B16-B332A004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17D2D-70DB-49CD-8A1F-1CE76F26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38D24-0F8E-42D2-9AA8-16CD7248F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7C932-AC86-47DA-9949-96DE90723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1F504-ACCD-47BD-87FB-44A2C8AF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880C0-B225-47E6-95E6-C387E93F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A196C-556E-491C-A44F-750FB6291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90568E-1F87-4BEA-957E-334F05C3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9BB35-AD28-40E9-B9DF-A2BA412C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8028B-862F-4757-8EED-40FF5CEA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7C165-D160-4F9C-9CBB-621CEB00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02CA-3AEE-403B-A1B6-EBE78A9B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149A0A-EE48-4916-971F-7565ECD6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4C945-2E28-4C3C-B365-88587F78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AD207-DE06-4168-A24C-F44E95D7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2C067-9255-47E3-801A-54DFA911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57B18-B826-46CD-B38A-D63DC7BA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06D46-91DB-41C5-9D41-563C2DEA3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35995-BFB0-417B-B473-3AEDC943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27D4B-FD72-436F-8576-DD904664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6D727-9DDA-4ED2-8432-C4D99580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6E7F6-C9F8-4FF3-A330-90B90B68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975C-BB6A-49AA-A2FB-F4E583AB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D8956-CF7C-46C0-9B77-6D899C8A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2FDAC-EF61-4BD1-8F3D-136FFA9A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7A62B-14A0-4E62-954B-DC80C12B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73B61-CE7F-4135-BE89-F61BCB62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06C46-60D8-4C36-809C-7F57674A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5B2A0-420C-4047-8058-53340C50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E4F67-7732-4FC6-8A64-77EF6731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56C095-24A9-4F89-9195-A972E066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C54FD5-E42C-47B3-A469-86DFE3A6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42BE1-45CE-455F-998A-79D1A5F6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DFB3-CFD4-40C1-881B-8BAAC25D8D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AB6E-E181-4DE2-91F0-63F0FAF5EA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7907-08F3-4441-B607-870057FF47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B969-6AFE-4FE6-A0D7-811F1C16BB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D1A64-8264-4FF2-9949-844EBFB2EC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0A29-80AC-48EA-87AC-045B52EAC9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19F4-CB13-4906-B215-97CC06E4DE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0E1E-B10C-4436-B61A-870AB45299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B150-91B7-4F65-9290-98050F0B9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B294-1DF5-4CC5-BCC5-37144A8C5B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428D-1906-4FD4-B430-E2BC6C5667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AC37-1220-4CFA-8CE1-2938582821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CB6D-E5AB-4815-B1DE-8D35B9EBBD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2FBF-EB4F-47D6-B505-0217C04A0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BE24-7D64-4830-9B19-CB1499BCC4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0C2F-9CEB-4E61-9BCE-C19A77C0DE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0C1B-07AF-4D60-97B5-7569ED9D39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2B094-B121-4B74-A676-BD3949270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C051-E169-425D-9E25-41AA2820AA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43BE-C086-4C3D-B4AA-181C846954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B79E-5277-4800-B41E-0416B1F1D4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A893-37E0-426D-A2DA-C20C5834D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372D-5B1B-43AB-9CF3-E9AACE170E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6D8F-D1BA-4E5C-8E57-9E4A3377CD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C576-FB25-49B7-8A5E-A13FD208FB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2E31-207E-4B74-ADE2-C0DC46A6EC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0E17-9AEB-4896-AF88-A5EF0F45D6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2385-C4DC-45BD-9EBD-89ED7D40B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14E6-1E71-438F-AD6D-CE1F152EAD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FD75-27AB-4A2A-BBCA-D3BC02258A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8458-7CD8-436C-A323-6B8B9104B8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DAC9-87A0-4D2C-870E-AF0049EE1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9841-62B5-4BA6-AAA8-A64A85132D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B85A-D70D-4794-A11B-A4012C41491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ACE8-91F1-49FF-860D-E54AFB33D7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73B5-68D7-4CD7-BCEE-94A85805F0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6D82-F4E6-45D5-8339-0CD5DDD44D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B540C-BC61-4634-920F-49A2A9EEBE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C685-9A6B-4EF9-9975-931408ADE7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2970-1E60-4F3C-9672-6886FBCDD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314360" y="1197000"/>
            <a:ext cx="6515280" cy="11430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352600" y="3014640"/>
            <a:ext cx="4438800" cy="82872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1623960" y="4334040"/>
            <a:ext cx="58960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3" name="图片 69633" descr=""/>
          <p:cNvPicPr/>
          <p:nvPr/>
        </p:nvPicPr>
        <p:blipFill>
          <a:blip r:embed="rId1"/>
          <a:stretch/>
        </p:blipFill>
        <p:spPr>
          <a:xfrm>
            <a:off x="290520" y="1857240"/>
            <a:ext cx="8562960" cy="3143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2"/>
          <a:stretch/>
        </p:blipFill>
        <p:spPr>
          <a:xfrm>
            <a:off x="1042920" y="4365720"/>
            <a:ext cx="58341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5" name="图片 68609" descr=""/>
          <p:cNvPicPr/>
          <p:nvPr/>
        </p:nvPicPr>
        <p:blipFill>
          <a:blip r:embed="rId1"/>
          <a:stretch/>
        </p:blipFill>
        <p:spPr>
          <a:xfrm>
            <a:off x="861840" y="1268280"/>
            <a:ext cx="7420320" cy="235296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68610" descr=""/>
          <p:cNvPicPr/>
          <p:nvPr/>
        </p:nvPicPr>
        <p:blipFill>
          <a:blip r:embed="rId2"/>
          <a:stretch/>
        </p:blipFill>
        <p:spPr>
          <a:xfrm>
            <a:off x="638280" y="3683160"/>
            <a:ext cx="7867440" cy="22669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3"/>
          <a:stretch/>
        </p:blipFill>
        <p:spPr>
          <a:xfrm>
            <a:off x="4284720" y="1773360"/>
            <a:ext cx="934920" cy="4935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4"/>
          <a:stretch/>
        </p:blipFill>
        <p:spPr>
          <a:xfrm>
            <a:off x="4427640" y="2565360"/>
            <a:ext cx="934920" cy="4939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5"/>
          <a:stretch/>
        </p:blipFill>
        <p:spPr>
          <a:xfrm>
            <a:off x="7596360" y="1773360"/>
            <a:ext cx="934920" cy="4935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6"/>
          <a:stretch/>
        </p:blipFill>
        <p:spPr>
          <a:xfrm>
            <a:off x="7236000" y="2637000"/>
            <a:ext cx="934920" cy="4935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7"/>
          <a:stretch/>
        </p:blipFill>
        <p:spPr>
          <a:xfrm>
            <a:off x="2124000" y="4221000"/>
            <a:ext cx="935280" cy="4939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8"/>
          <a:stretch/>
        </p:blipFill>
        <p:spPr>
          <a:xfrm>
            <a:off x="2268360" y="5084640"/>
            <a:ext cx="935280" cy="4939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9"/>
          <a:stretch/>
        </p:blipFill>
        <p:spPr>
          <a:xfrm>
            <a:off x="5076720" y="4221000"/>
            <a:ext cx="935280" cy="4939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10"/>
          <a:stretch/>
        </p:blipFill>
        <p:spPr>
          <a:xfrm>
            <a:off x="5219640" y="5084640"/>
            <a:ext cx="934920" cy="4939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1"/>
          <a:stretch/>
        </p:blipFill>
        <p:spPr>
          <a:xfrm>
            <a:off x="7596360" y="4221000"/>
            <a:ext cx="934920" cy="49392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2"/>
          <a:stretch/>
        </p:blipFill>
        <p:spPr>
          <a:xfrm>
            <a:off x="8028000" y="5056200"/>
            <a:ext cx="93492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252360" y="885960"/>
            <a:ext cx="8639280" cy="56386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5508720" y="3357720"/>
            <a:ext cx="172728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2268360" y="3889440"/>
            <a:ext cx="2664000" cy="4935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7488360" y="3889440"/>
            <a:ext cx="1331640" cy="4935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5"/>
          <a:stretch/>
        </p:blipFill>
        <p:spPr>
          <a:xfrm>
            <a:off x="1504800" y="4437000"/>
            <a:ext cx="1332000" cy="4939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6"/>
          <a:stretch/>
        </p:blipFill>
        <p:spPr>
          <a:xfrm>
            <a:off x="5364000" y="4351320"/>
            <a:ext cx="3348360" cy="5904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7"/>
          <a:stretch/>
        </p:blipFill>
        <p:spPr>
          <a:xfrm>
            <a:off x="1397160" y="4941720"/>
            <a:ext cx="2670120" cy="493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8"/>
          <a:stretch/>
        </p:blipFill>
        <p:spPr>
          <a:xfrm>
            <a:off x="7459560" y="4968720"/>
            <a:ext cx="133200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9"/>
          <a:stretch/>
        </p:blipFill>
        <p:spPr>
          <a:xfrm>
            <a:off x="1476360" y="5516640"/>
            <a:ext cx="1332000" cy="493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0"/>
          <a:stretch/>
        </p:blipFill>
        <p:spPr>
          <a:xfrm>
            <a:off x="5767560" y="5430960"/>
            <a:ext cx="1081080" cy="590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1"/>
          <a:stretch/>
        </p:blipFill>
        <p:spPr>
          <a:xfrm>
            <a:off x="7669080" y="5516640"/>
            <a:ext cx="7192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9410" descr=""/>
          <p:cNvPicPr/>
          <p:nvPr/>
        </p:nvPicPr>
        <p:blipFill>
          <a:blip r:embed="rId1"/>
          <a:stretch/>
        </p:blipFill>
        <p:spPr>
          <a:xfrm>
            <a:off x="604800" y="1585800"/>
            <a:ext cx="7934400" cy="368640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4427640" y="1538280"/>
            <a:ext cx="432108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1258920" y="207504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1619280" y="2693880"/>
            <a:ext cx="2592360" cy="4939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1979640" y="3255840"/>
            <a:ext cx="1368360" cy="4939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3419640" y="4005360"/>
            <a:ext cx="64764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5076720" y="371628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7020000" y="3948120"/>
            <a:ext cx="64764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1908000" y="4797360"/>
            <a:ext cx="1079640" cy="493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4716360" y="4797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6732720" y="4738680"/>
            <a:ext cx="647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8373" descr=""/>
          <p:cNvPicPr/>
          <p:nvPr/>
        </p:nvPicPr>
        <p:blipFill>
          <a:blip r:embed="rId1"/>
          <a:stretch/>
        </p:blipFill>
        <p:spPr>
          <a:xfrm>
            <a:off x="566640" y="1143000"/>
            <a:ext cx="8010720" cy="45720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7093080" y="1197000"/>
            <a:ext cx="576000" cy="9367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4356000" y="2205000"/>
            <a:ext cx="576360" cy="936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1692360" y="3198960"/>
            <a:ext cx="1008000" cy="93636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2857680" y="5170320"/>
            <a:ext cx="5760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1" name="图片 57352" descr=""/>
          <p:cNvPicPr/>
          <p:nvPr/>
        </p:nvPicPr>
        <p:blipFill>
          <a:blip r:embed="rId1"/>
          <a:stretch/>
        </p:blipFill>
        <p:spPr>
          <a:xfrm>
            <a:off x="266760" y="900000"/>
            <a:ext cx="8610480" cy="505800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2"/>
          <a:stretch/>
        </p:blipFill>
        <p:spPr>
          <a:xfrm>
            <a:off x="7667640" y="1557360"/>
            <a:ext cx="57636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3"/>
          <a:stretch/>
        </p:blipFill>
        <p:spPr>
          <a:xfrm>
            <a:off x="7596360" y="262260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4"/>
          <a:stretch/>
        </p:blipFill>
        <p:spPr>
          <a:xfrm>
            <a:off x="7667640" y="3716280"/>
            <a:ext cx="576360" cy="4939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5"/>
          <a:stretch/>
        </p:blipFill>
        <p:spPr>
          <a:xfrm>
            <a:off x="7596360" y="4292640"/>
            <a:ext cx="57600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6"/>
          <a:stretch/>
        </p:blipFill>
        <p:spPr>
          <a:xfrm>
            <a:off x="7667640" y="5373720"/>
            <a:ext cx="576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6324" descr=""/>
          <p:cNvPicPr/>
          <p:nvPr/>
        </p:nvPicPr>
        <p:blipFill>
          <a:blip r:embed="rId1"/>
          <a:stretch/>
        </p:blipFill>
        <p:spPr>
          <a:xfrm>
            <a:off x="757080" y="1204920"/>
            <a:ext cx="7629840" cy="4448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4500720" y="2766960"/>
            <a:ext cx="576000" cy="8064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6300720" y="2781360"/>
            <a:ext cx="1440000" cy="8064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1979640" y="3716280"/>
            <a:ext cx="1440000" cy="8064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6156360" y="3716280"/>
            <a:ext cx="1440000" cy="8064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1908000" y="4724280"/>
            <a:ext cx="1440000" cy="8064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3995640" y="4695840"/>
            <a:ext cx="14400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5300" descr=""/>
          <p:cNvPicPr/>
          <p:nvPr/>
        </p:nvPicPr>
        <p:blipFill>
          <a:blip r:embed="rId1"/>
          <a:stretch/>
        </p:blipFill>
        <p:spPr>
          <a:xfrm>
            <a:off x="266760" y="1685880"/>
            <a:ext cx="8610480" cy="34862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4427640" y="2924280"/>
            <a:ext cx="2376360" cy="4935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4427640" y="3500280"/>
            <a:ext cx="2376360" cy="4939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6084720" y="4048200"/>
            <a:ext cx="2376720" cy="4935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6315120" y="4595760"/>
            <a:ext cx="208764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54276" descr=""/>
          <p:cNvPicPr/>
          <p:nvPr/>
        </p:nvPicPr>
        <p:blipFill>
          <a:blip r:embed="rId1"/>
          <a:stretch/>
        </p:blipFill>
        <p:spPr>
          <a:xfrm>
            <a:off x="343080" y="1685880"/>
            <a:ext cx="8458200" cy="348624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54277" descr=""/>
          <p:cNvPicPr/>
          <p:nvPr/>
        </p:nvPicPr>
        <p:blipFill>
          <a:blip r:embed="rId2"/>
          <a:stretch/>
        </p:blipFill>
        <p:spPr>
          <a:xfrm>
            <a:off x="982800" y="3328920"/>
            <a:ext cx="7981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9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2231" descr=""/>
          <p:cNvPicPr/>
          <p:nvPr/>
        </p:nvPicPr>
        <p:blipFill>
          <a:blip r:embed="rId1"/>
          <a:stretch/>
        </p:blipFill>
        <p:spPr>
          <a:xfrm>
            <a:off x="266760" y="1390680"/>
            <a:ext cx="8610480" cy="407664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52232" descr=""/>
          <p:cNvPicPr/>
          <p:nvPr/>
        </p:nvPicPr>
        <p:blipFill>
          <a:blip r:embed="rId2"/>
          <a:stretch/>
        </p:blipFill>
        <p:spPr>
          <a:xfrm>
            <a:off x="866880" y="2660760"/>
            <a:ext cx="78962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16:0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